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E14-4C61-47CB-83C7-76AD3B8F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386-0B04-4578-BC47-383064F9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586-2494-4AD2-856D-A71534E7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707-B1C1-4523-975E-D94F9051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1A22-6E54-4A6C-BB75-DD1DA740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C9B6-0159-40C8-985A-AC53DCA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8F70-2F7F-48BD-8148-D7A24A74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B23-275D-467C-8576-B573877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4F6B-494A-4741-B64F-1DCD2D1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BDDE-DFA3-42A9-BE46-8F90860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0CF0-2CD7-488D-97A3-7C8BCB5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E84-4923-4FDF-81F4-72C90EAF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D4E3-94F9-4E73-8BC0-FC25976F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5FA2-B6FE-4A3B-B15E-4950E2E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0B1D-9A95-48CE-86E5-1A890587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2E2-CD0E-4D3C-BA54-38CC5D6E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8477-0C01-43E8-8E36-3729DFE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553-F412-4EE1-9377-0F867EE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C43-455C-49E3-A845-0BEF5D43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E01-1D16-4610-BEE5-691E7F47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DA7-EF93-4ACB-9437-F784993C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338-63F7-441C-B9ED-7A6DB74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739-C02C-44ED-AA14-FB4A53F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311-7B9A-443D-A43D-17EB526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B9D-1734-46C5-8F45-F935434393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0AC5-7CBA-420B-BFA7-8A21D9C01E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hinguardian.files.wordpress.com/2010/02/german-flag.png&amp;imgrefurl=http://theshinguardian.com/%3Fattachment_id%3D9473&amp;usg=__g685WHzYVteaS2i7Td57o96nLrI=&amp;h=1536&amp;w=2560&amp;sz=19&amp;hl=en&amp;start=7&amp;zoom=1&amp;tbnid=KlisiefQfUMdQM:&amp;tbnh=90&amp;tbnw=150&amp;ei=erymTvOdO8bEgQfD3fko&amp;prev=/images%3Fq%3Dgerman%2Bflag%2Bpictures%26um%3D1%26hl%3Den%26safe%3Dactive%26rlz%3D1T4ADSA_enUS434US446%26tbm%3Disch&amp;um=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erman.about.com/library/blbraeuche_martin.htm" TargetMode="External"/><Relationship Id="rId2" Type="http://schemas.openxmlformats.org/officeDocument/2006/relationships/hyperlink" Target="http://www.bellaonline.com/articles/art47400.asp" TargetMode="External"/><Relationship Id="rId3" Type="http://schemas.openxmlformats.org/officeDocument/2006/relationships/hyperlink" Target="http://www.kikisweb.de/spezial/stmartin/geschichten/legende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German Customs and Tradition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 of St. Martinst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Brian B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german.about.com/library/blbraeuche_martin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bellaonline.com/articles/art47400.a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kikisweb.de/spezial/stmartin/geschichten/legende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s place on November 11 (Veteran’s Day in Amer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ation of Halloween and Thanksgi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ebrates the feast of Saint Mart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a Catholic tra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Laternenumzug mit Reiter am St. Martinstag"/>
          <p:cNvPicPr/>
          <p:nvPr/>
        </p:nvPicPr>
        <p:blipFill>
          <a:blip r:embed="rId1"/>
          <a:stretch/>
        </p:blipFill>
        <p:spPr>
          <a:xfrm>
            <a:off x="46483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verview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tionally, St. Martinstag  was celebrated as the end of the harvest season (i.e. Thanksgiving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time when the poor could enjoy some of the fine foods from the local l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. Mart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320" y="1218960"/>
            <a:ext cx="312444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3924360"/>
            <a:ext cx="3200400" cy="262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oldier in the Roman army, he is most known for tearing his cloak (die Mantelteilung) in two and sharing it with a beggar in Ami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ed the title of Bishop of Tours, and is considered the most revered of European sai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66680" y="121932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90720" y="3962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uftig Martin Luth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an Protestants celebrate the christening of protestant reformer Martin Luther on November 11, instead of the Catholic St. Martinsta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kes it his Tauftag, or baptismal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71600" y="1600200"/>
            <a:ext cx="1981080" cy="209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638680" y="1600200"/>
            <a:ext cx="2133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Celebrate St. Martinsta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primarily celebrated by a procession of children with candle-lit lanterns following ‘St. Martin’ on his white hor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ildren sing songs about the life of St. Martin, a popular one is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Ich geh' mit meiner Laterne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Und meine Laterne mit mir.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I'm walking with my lanter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and my latern walks with me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2950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to Celebrate St. Martinstag (Cont.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ediately following the procession is a feast of roast go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former times, “Martini” was the official start of the winter season, but it is now the start of the winter shopping sea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1981080" cy="2438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305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: What did St. Martin share with the freezing begg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: Who do the Protestants celebrate on Nov. 11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: His clo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: Martin Lu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3:43:08Z</dcterms:created>
  <dc:creator>SCSadmin</dc:creator>
  <dc:description/>
  <dc:language>en-US</dc:language>
  <cp:lastModifiedBy>SCSadmin</cp:lastModifiedBy>
  <dcterms:modified xsi:type="dcterms:W3CDTF">2011-11-09T14:22:30Z</dcterms:modified>
  <cp:revision>6</cp:revision>
  <dc:subject/>
  <dc:title>German Customs and Traditions</dc:title>
</cp:coreProperties>
</file>